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dt" idx="3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ftr" idx="3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 type="sldNum" idx="3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4B788-C94D-43BF-9A50-7E64B66B2F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93D57-E97F-4350-886F-73AA8EF163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89F71-A61D-4F71-939C-14F1F6C2D9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DAB2D-F22A-4499-9539-6E558EDFFA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99A1-8B4E-46CA-ACE6-37E94CA04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5F0A-C48C-4F54-9710-CA4EC07BE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94410B-9FC0-4E36-ACA0-9E9423F2D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199380-0A0C-43FC-87E4-EAA6090EE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F2EBEB-BAD8-4A79-9AD7-6BD80D79B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04F718-92D5-4202-9E0D-EE3B1213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63A0E7-B7A3-44E7-AD2E-7A9236E7F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053C83-80AB-4392-BB15-943F54F4F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8C0CD2-3047-4BB5-B5FE-4A3759354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1BCC32-D0AD-47A3-99D7-919726E02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30A86A-ACC8-4040-B0BE-A3E15A4D2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A1489FE-989C-4551-8EA1-F0CF9C3DD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471C-3D92-4475-8272-A3D621039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BF060D5-FE86-469F-B6D5-568A107D7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BC86FE4-F840-4DEC-8D97-2859F2A35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496E2D0-89AD-4D0F-9242-1B2118A4E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0C98CA1-E9E8-439C-B60B-9F3714FD1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8CAC827-A6B7-487D-BDDA-986C721BC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5F200C0-86E0-4164-935B-91AE2E66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6204E9A-2A5E-421E-A546-932C51DA5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484AB5F-96A7-4C04-921D-53FE160C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1BCAFA1-C5FE-42DD-9017-19B14C2C3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4EB1DA3-6244-456A-805D-B4100FD61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56E8-4714-4A68-9E25-F33BBDC1C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E2E598A-3667-4474-AEF5-1093FC7CF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E3B949-603F-451C-B558-CE49DCE7D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4F9B87-E3D4-4E86-97A0-A13518038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68B2B5-B6EA-47BF-876C-1A7E3D41B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E92BB0-54DF-4D04-BA21-C09FAB150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9EE8AF-F636-4CC5-A4B8-6D07CC396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C7C203-8FF5-4C5B-97F3-CCF8E712A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72E486-38A7-43AA-9CA5-78A3C7002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D04BBC-5E77-4AF0-8DB0-866D4F99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4FE134-0DAD-477B-9D74-EF73D08F5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8D8DD-48CB-49B9-B67D-4BB2459D7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F98A7F-FB7E-44C7-A263-2F1F7EBD2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6809FD-8FF7-47D3-B283-95DA74E69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9D287E-1E8C-4962-901A-C80EE4639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82B93E-0384-4DA9-A52C-2EF5091EE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D4D2DA-DA36-49B3-ACA5-DB5117315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8CF2B3-53D8-4916-BBDC-211AFA4D6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A19CC1-7AB1-4108-816B-4E8D2E1CC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28BE6F-5C14-4F63-B251-9C7C4A59A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8A9B6F-730F-4B9E-8D49-02D5019E6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B0932D-B087-4E74-A008-14277D08F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BFDF1-C3E1-4DD0-93D0-8208576CE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CB5EAF-3955-4EEF-804A-F63A6F22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2947A1-392A-4BE4-BB67-6B97FC5BD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0291FC-2C2F-43EF-8AF0-607211C1D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BF4C0B-6504-4E94-B0C2-0F4A7477E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BC351E-2B60-4DAC-BADA-5B11ECB91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3C520-3C5D-4D76-8311-208412405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7A8A2-BCFE-4FE2-8B96-5E9A6DD61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E738B-E2D9-42B2-808D-B26B86B73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17A5C-D67C-44D0-89B0-F29BBF937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D5466-86B6-41F6-AE70-FA032E1F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98FC-855E-42BE-92E7-353BDDC62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33E6B-CC53-48A8-B210-CA0E4395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3C99C-A0DB-4CF2-9170-33D06DC4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1689F-F39F-4BC9-9F5F-E81DC1E5C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F78B2-B351-4661-B7A4-4C5D74707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C1CDB-0D24-4671-BFA0-D8BB7071E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AC7BC-91A3-44D4-B3B3-682A7F9DF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5059F-DD45-44B9-A2D4-40F75F777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48497-BF9A-4184-8E2E-345AE088F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C7612-A18A-4D4A-8AED-9AC959696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AB05A-718A-428E-A280-C5435F647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45C7-6BD4-407E-8337-4A6BCA1D5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76675-3847-4865-B68B-3F674B06C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B4CDE-9EA6-4B03-A8AC-E79706B75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9F818-1DFE-43AB-9568-3376D01E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05EE3-E239-482D-BD13-AFFDB5A06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91354-098D-4C96-8465-8EDA85E70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9108D-C494-45AD-94CA-FD61FF5B4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519A5-C3BD-49E5-9F4E-54419E3EC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537CF2-22A0-4560-BA65-0B6D23F8E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2734FF-AC70-484B-9BC5-243C81F8A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CDCB1B-93D3-4856-867D-E7B04760A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5699-C9F6-4019-84A5-A0773B6F0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691F38-C716-4BFD-B2B1-F23EF3A80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1514B9-B857-426E-86FF-414D988D3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AF8584-0DDF-4AF8-8872-C12DDA2FB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1E7718-83F9-48A5-A07B-6B2133F7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49FC40-8AA6-4632-8C1F-9C626A194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5D7CB3-56BA-4CD4-A541-4ED61C9C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660703-9BDE-41D0-8BA4-6228F0BF9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83B618-C365-43BC-982D-1EC71A3B8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656E33-BDC7-493E-8CF0-6A42713E4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6C068A-D9BA-4547-B117-F80159D0E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1A84-0D0B-4204-A988-5B83A90CE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4A8F86-35C0-4DD1-9086-AD4773126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62472B-0C7D-4B8B-98D1-E3AE47193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9F6990-C525-4D1F-876B-906500729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F39DFB-86D0-4037-9B47-5587D9EF8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9FDACA-E46C-4017-B57B-CB9D061A9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34E54F-F2FF-47F4-9B72-47E28AA00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DF91DA-62F5-4EA9-AFB4-BA03C221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21FB12-1704-429F-9805-89BACF68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87657B-95FF-4951-B9B9-A5D39EC94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E3E6D9-D8AF-43D9-BDB8-A77454236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8F4D-6217-45E5-ADED-33653D2E5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43A9E7-8564-4557-AB09-D1FEC068D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684D53-BB7A-426D-AC92-355D9D4D1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AF62C0-E5D6-4912-8116-72F013B41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C62B0C-D1AE-414A-B4F9-B12264A25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81E819-E345-46B5-ABAA-DD362AE53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837AC5-62BF-4C0D-8B2A-8BD5A6A12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FA3AF4-0C26-4FD4-9F6D-041FD16F8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A950CF-F0DB-4904-BAEE-D7A37BED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E2EC27-A228-4921-B878-53000448A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5608B9-59DC-4956-B46C-588A754E3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6393-A517-4387-9491-E129AE639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CA2CD6-D5CC-4566-BE06-B0564D072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DBFD9A-3B1F-4167-9078-5DEF58833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23CDAD-8AA8-48CE-A0EA-8FD177A75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05D81E-DF52-470B-BD72-8063BB1FE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41834C-A333-4FEB-8DE3-9AD93EEFB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CCA7C4-9693-442B-88E5-00AC7189D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423659-6787-4CEE-96FF-5C4A223D1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284FDA-1214-4A14-AFE1-9F6804AAC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6D394F-D1F0-492B-A147-80283E61D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7CD62A-EDC6-4716-83F3-04894902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614D-0819-4242-A782-CAE22F5ED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02C433-7E35-4CCF-AE83-12DFC6362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EDD58B-8F1A-49A5-A3A2-8A11F920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184ADF-BA8B-4412-824C-169EB666A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A8FB10-984E-4FB7-AA16-33C0A885E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7A0A32-82A4-4F50-AA15-6042B141E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96321E-C3DE-4417-8FD4-54ABD6DCB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FA4324-5DCF-4EA8-BD0B-6D5E7179A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2F4E3E-26FC-4870-932D-0C4CF8D42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95C582-A10A-4586-9404-F85A8C9AD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2A6BC6-4442-49D1-B391-AAB6CC3E6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D63F-EB8D-47ED-9F10-12A3BD0E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BB5EF2-3312-4213-9063-56C0C7B8F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23A350-0D25-4557-9916-8AF57367F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DE819A-A321-492A-B13E-F17DA50A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94CAE8-0FCD-4FA7-8653-3AAA42681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37BD6C-5F93-4B18-98E3-29F6DD78D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F38FDB-AB1A-4A7E-AB82-0AB4FBD69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248550-CB97-4480-B796-B381087BE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A9F862-1328-48B2-88E4-0F5C7BCD8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0C3191-429F-4193-8700-A76E80890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D6992E-EDF1-452E-B880-371530B56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810AE-F281-407D-810D-5A0FE142113E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4B610-6FB9-4951-9F87-6171147F73D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4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5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8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9E78E-8341-4553-B83E-E71E972DB31B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sldNum" idx="29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24C2A-8561-4029-9E9D-D000D3B23E8A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ftr" idx="30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3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16114-3E8B-44E5-8CBF-AD756DF26FD1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3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83CDC-10ED-4D93-B1AE-814D9116A87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3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4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dt" idx="34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0D068-03F3-4FB3-B20E-A92A13581213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ftr" idx="35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sldNum" idx="36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79C41-9D72-4768-A52C-A294FCCFBFE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6A26C-DF5D-4613-B051-96BAB6652378}" type="datetime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4FDF2-AA09-4609-AD44-73BCF561022F}" type="slidenum">
              <a:rPr b="1" lang="en-US" sz="14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CAECD-F530-464B-94FF-07D59CB0AD38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08C45-39BB-4A1E-9BD0-8F883C9534D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36F89-0C6E-4114-B0DA-233526A376C8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80970-D1BF-445D-97D4-4011D1DA9A67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0A306-4806-44D3-9396-4A7051F44B09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BDBCF-CB8D-4D23-AD5A-EB8B33FC69C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831C6-279D-4AC5-A4E8-1B260230980A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D8F18-8588-46A9-85CC-FEA53951595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ftr" idx="1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DA4FC-FF28-4A6A-9185-48EC14ADD940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A6682-7A68-4516-A610-E9E3A43A198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92EA2-3C18-457F-9060-2F2D68ED53DA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F675F-047C-4139-A437-D3D3492F8E2E}" type="slidenum">
              <a:rPr b="1" lang="en-US" sz="14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95F78-D010-4527-928B-DEC1E5218ABF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CCA48-99B4-42EB-827C-D111F7D91DA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26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ce1"/>
                </a:solidFill>
                <a:latin typeface="Tw Cen MT"/>
              </a:rPr>
              <a:t>ESTIMATES OF U.S. POSTAL DEMAND ELASTICITIES DERIVED FROM A RANDOM-COEFFICIENTS DISCRETE-CHOICE NORMAL MODEL</a:t>
            </a:r>
            <a:endParaRPr b="0" lang="en-US" sz="40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Margaret M. Cigno, Elena S. Patel and Edward S. Pearsal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533520" y="52578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The views represented are solely those of the authors and not necessarily those of the Postal Regulatory Commission.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36" name="Picture 4" descr="Background_with stamps_white bar.jpg"/>
          <p:cNvPicPr/>
          <p:nvPr/>
        </p:nvPicPr>
        <p:blipFill>
          <a:blip r:embed="rId1"/>
          <a:stretch/>
        </p:blipFill>
        <p:spPr>
          <a:xfrm>
            <a:off x="7765920" y="-19080"/>
            <a:ext cx="1463760" cy="2055960"/>
          </a:xfrm>
          <a:prstGeom prst="rect">
            <a:avLst/>
          </a:prstGeom>
          <a:ln w="0">
            <a:noFill/>
          </a:ln>
        </p:spPr>
      </p:pic>
      <p:sp>
        <p:nvSpPr>
          <p:cNvPr id="537" name="Slide Number Placeholder 5"/>
          <p:cNvSpPr/>
          <p:nvPr/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59BE2-803B-44D4-8696-F491BEF69853}" type="slidenum">
              <a:rPr b="1" lang="en-US" sz="1400" spc="-1" strike="noStrike">
                <a:solidFill>
                  <a:srgbClr val="eeece1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w Cen MT"/>
              </a:rPr>
              <a:t>Selected Results – Mean Indirect Utility 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304920" y="2320920"/>
          <a:ext cx="8474040" cy="1641600"/>
        </p:xfrm>
        <a:graphic>
          <a:graphicData uri="http://schemas.openxmlformats.org/drawingml/2006/table">
            <a:tbl>
              <a:tblPr/>
              <a:tblGrid>
                <a:gridCol w="1066680"/>
                <a:gridCol w="822240"/>
                <a:gridCol w="824040"/>
                <a:gridCol w="822240"/>
                <a:gridCol w="824040"/>
                <a:gridCol w="822240"/>
                <a:gridCol w="822240"/>
                <a:gridCol w="824040"/>
                <a:gridCol w="822240"/>
                <a:gridCol w="824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FW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Weight/ Pie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Let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Ca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Fla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Parce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Pres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Dist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Serv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lph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oeffici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2.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.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.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.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.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1.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.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-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24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3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5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6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4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9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4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4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70" name="TextBox 7"/>
          <p:cNvSpPr/>
          <p:nvPr/>
        </p:nvSpPr>
        <p:spPr>
          <a:xfrm>
            <a:off x="3352680" y="17524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able 1a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1" name="Slide Number Placeholder 10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6A370-EFCF-4C69-80A6-B98030B879DE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2" name="Frame 11"/>
          <p:cNvSpPr/>
          <p:nvPr/>
        </p:nvSpPr>
        <p:spPr>
          <a:xfrm>
            <a:off x="2209680" y="3200400"/>
            <a:ext cx="838440" cy="762120"/>
          </a:xfrm>
          <a:custGeom>
            <a:avLst/>
            <a:gdLst>
              <a:gd name="textAreaLeft" fmla="*/ 46080 w 838440"/>
              <a:gd name="textAreaRight" fmla="*/ 792360 w 838440"/>
              <a:gd name="textAreaTop" fmla="*/ 46080 h 762120"/>
              <a:gd name="textAreaBottom" fmla="*/ 716040 h 762120"/>
            </a:gdLst>
            <a:ahLst/>
            <a:rect l="textAreaLeft" t="textAreaTop" r="textAreaRight" b="textAreaBottom"/>
            <a:pathLst>
              <a:path w="838200" h="762000">
                <a:moveTo>
                  <a:pt x="0" y="0"/>
                </a:moveTo>
                <a:lnTo>
                  <a:pt x="838200" y="0"/>
                </a:lnTo>
                <a:lnTo>
                  <a:pt x="838200" y="762000"/>
                </a:lnTo>
                <a:lnTo>
                  <a:pt x="0" y="762000"/>
                </a:lnTo>
                <a:close/>
                <a:moveTo>
                  <a:pt x="46086" y="46086"/>
                </a:moveTo>
                <a:lnTo>
                  <a:pt x="46086" y="715914"/>
                </a:lnTo>
                <a:lnTo>
                  <a:pt x="792114" y="715914"/>
                </a:lnTo>
                <a:lnTo>
                  <a:pt x="792114" y="46086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3" name="TextBox 12"/>
          <p:cNvSpPr/>
          <p:nvPr/>
        </p:nvSpPr>
        <p:spPr>
          <a:xfrm>
            <a:off x="609480" y="441972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Households place a higher value on services that permit heavier mailing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w Cen MT"/>
              </a:rPr>
              <a:t>Selected Results – Mean Indirect Utility 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304920" y="2320920"/>
          <a:ext cx="8474040" cy="1641600"/>
        </p:xfrm>
        <a:graphic>
          <a:graphicData uri="http://schemas.openxmlformats.org/drawingml/2006/table">
            <a:tbl>
              <a:tblPr/>
              <a:tblGrid>
                <a:gridCol w="1066680"/>
                <a:gridCol w="822240"/>
                <a:gridCol w="824040"/>
                <a:gridCol w="822240"/>
                <a:gridCol w="824040"/>
                <a:gridCol w="822240"/>
                <a:gridCol w="822240"/>
                <a:gridCol w="824040"/>
                <a:gridCol w="822240"/>
                <a:gridCol w="824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FW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Weight/ Pie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Let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Ca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Fla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Parce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Pres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Dist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Serv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lph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oeffici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2.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.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.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.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.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1.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.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-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24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3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5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6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4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9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4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4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76" name="TextBox 7"/>
          <p:cNvSpPr/>
          <p:nvPr/>
        </p:nvSpPr>
        <p:spPr>
          <a:xfrm>
            <a:off x="3352680" y="17524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able 1a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7" name="Slide Number Placeholder 10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50246-99A6-4CD0-A86C-E95BF21EE39A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8" name="Frame 11"/>
          <p:cNvSpPr/>
          <p:nvPr/>
        </p:nvSpPr>
        <p:spPr>
          <a:xfrm>
            <a:off x="3048120" y="3200400"/>
            <a:ext cx="3276360" cy="762120"/>
          </a:xfrm>
          <a:custGeom>
            <a:avLst/>
            <a:gdLst>
              <a:gd name="textAreaLeft" fmla="*/ 46080 w 3276360"/>
              <a:gd name="textAreaRight" fmla="*/ 3230280 w 3276360"/>
              <a:gd name="textAreaTop" fmla="*/ 46080 h 762120"/>
              <a:gd name="textAreaBottom" fmla="*/ 716040 h 762120"/>
            </a:gdLst>
            <a:ahLst/>
            <a:rect l="textAreaLeft" t="textAreaTop" r="textAreaRight" b="textAreaBottom"/>
            <a:pathLst>
              <a:path w="3276600" h="762000">
                <a:moveTo>
                  <a:pt x="0" y="0"/>
                </a:moveTo>
                <a:lnTo>
                  <a:pt x="3276600" y="0"/>
                </a:lnTo>
                <a:lnTo>
                  <a:pt x="3276600" y="762000"/>
                </a:lnTo>
                <a:lnTo>
                  <a:pt x="0" y="762000"/>
                </a:lnTo>
                <a:close/>
                <a:moveTo>
                  <a:pt x="46086" y="46086"/>
                </a:moveTo>
                <a:lnTo>
                  <a:pt x="46086" y="715914"/>
                </a:lnTo>
                <a:lnTo>
                  <a:pt x="3230514" y="715914"/>
                </a:lnTo>
                <a:lnTo>
                  <a:pt x="3230514" y="46086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9" name="TextBox 12"/>
          <p:cNvSpPr/>
          <p:nvPr/>
        </p:nvSpPr>
        <p:spPr>
          <a:xfrm>
            <a:off x="609480" y="441972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ards and Parcels are the most highly valued shap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lats are the least valued shap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w Cen MT"/>
              </a:rPr>
              <a:t>Selected Results – Mean Indirect Utility 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304920" y="2320920"/>
          <a:ext cx="8474040" cy="1641600"/>
        </p:xfrm>
        <a:graphic>
          <a:graphicData uri="http://schemas.openxmlformats.org/drawingml/2006/table">
            <a:tbl>
              <a:tblPr/>
              <a:tblGrid>
                <a:gridCol w="1066680"/>
                <a:gridCol w="822240"/>
                <a:gridCol w="824040"/>
                <a:gridCol w="822240"/>
                <a:gridCol w="824040"/>
                <a:gridCol w="822240"/>
                <a:gridCol w="822240"/>
                <a:gridCol w="824040"/>
                <a:gridCol w="822240"/>
                <a:gridCol w="824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FW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Weight/ Pie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Let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Ca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Fla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Parce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Pres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Dist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Serv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lph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oeffici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2.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.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.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.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.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1.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.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-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24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3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5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6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4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9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4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4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82" name="TextBox 7"/>
          <p:cNvSpPr/>
          <p:nvPr/>
        </p:nvSpPr>
        <p:spPr>
          <a:xfrm>
            <a:off x="3352680" y="17524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able 1a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3" name="Slide Number Placeholder 10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D7FA9-FC0C-4EB4-80B0-4227D41BF7A4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4" name="Frame 11"/>
          <p:cNvSpPr/>
          <p:nvPr/>
        </p:nvSpPr>
        <p:spPr>
          <a:xfrm>
            <a:off x="6324480" y="3200400"/>
            <a:ext cx="838440" cy="762120"/>
          </a:xfrm>
          <a:custGeom>
            <a:avLst/>
            <a:gdLst>
              <a:gd name="textAreaLeft" fmla="*/ 46080 w 838440"/>
              <a:gd name="textAreaRight" fmla="*/ 792360 w 838440"/>
              <a:gd name="textAreaTop" fmla="*/ 46080 h 762120"/>
              <a:gd name="textAreaBottom" fmla="*/ 716040 h 762120"/>
            </a:gdLst>
            <a:ahLst/>
            <a:rect l="textAreaLeft" t="textAreaTop" r="textAreaRight" b="textAreaBottom"/>
            <a:pathLst>
              <a:path w="838200" h="762000">
                <a:moveTo>
                  <a:pt x="0" y="0"/>
                </a:moveTo>
                <a:lnTo>
                  <a:pt x="838200" y="0"/>
                </a:lnTo>
                <a:lnTo>
                  <a:pt x="838200" y="762000"/>
                </a:lnTo>
                <a:lnTo>
                  <a:pt x="0" y="762000"/>
                </a:lnTo>
                <a:close/>
                <a:moveTo>
                  <a:pt x="46086" y="46086"/>
                </a:moveTo>
                <a:lnTo>
                  <a:pt x="46086" y="715914"/>
                </a:lnTo>
                <a:lnTo>
                  <a:pt x="792114" y="715914"/>
                </a:lnTo>
                <a:lnTo>
                  <a:pt x="792114" y="46086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5" name="TextBox 12"/>
          <p:cNvSpPr/>
          <p:nvPr/>
        </p:nvSpPr>
        <p:spPr>
          <a:xfrm>
            <a:off x="609480" y="4419720"/>
            <a:ext cx="7925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Reflects a preference for mail that may be workshare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resortation allows for a more efficient division of mail prepara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s also associated with many other advantag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Bulk entry, simplified weight-based payment, faster service, etc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w Cen MT"/>
              </a:rPr>
              <a:t>Selected Results – Elasticity Estimates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graphicFrame>
        <p:nvGraphicFramePr>
          <p:cNvPr id="587" name=""/>
          <p:cNvGraphicFramePr/>
          <p:nvPr/>
        </p:nvGraphicFramePr>
        <p:xfrm>
          <a:off x="533520" y="1981080"/>
          <a:ext cx="7848360" cy="4008600"/>
        </p:xfrm>
        <a:graphic>
          <a:graphicData uri="http://schemas.openxmlformats.org/drawingml/2006/table">
            <a:tbl>
              <a:tblPr/>
              <a:tblGrid>
                <a:gridCol w="617400"/>
                <a:gridCol w="1744560"/>
                <a:gridCol w="731880"/>
                <a:gridCol w="731880"/>
                <a:gridCol w="730440"/>
                <a:gridCol w="731520"/>
                <a:gridCol w="731880"/>
                <a:gridCol w="731880"/>
                <a:gridCol w="10969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(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(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(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(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S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Thress (USPS 201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First-Clas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ingle-Piec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etters Flats and Car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8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1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1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2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189 (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063 (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(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First-Clas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PreS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etters Flats and Car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1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8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1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2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436 (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292 (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(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Periodicals (In County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3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2.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3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1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8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1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(9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tandar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on Carrier Rou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etters Flats and Car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1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2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1.1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2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33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265 (N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(1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tanda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arrier Rou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etters, Flats and Car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1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2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2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1.4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3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7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542 (N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</a:tbl>
          </a:graphicData>
        </a:graphic>
      </p:graphicFrame>
      <p:sp>
        <p:nvSpPr>
          <p:cNvPr id="588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C234B-86AB-437B-AC8D-328F4D80E6EC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Preliminary Conclusions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90" name="Slide Number Placeholder 2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36587-9B95-4BEB-936F-2CA10FD29716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612720" y="15998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99520" indent="-29952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e have found a model and methodology for estimating elasticities across all postal product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tatistical properties of the model are quite good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igns of coefficients conform to expectation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U.S. postal products are much more sensitive to demand than conventional models estimat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onventional models yield estimates that combine the effects of own and all cross-price elasticiti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esults should be regarded as the early results of an initial explora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Future Work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93" name="Slide Number Placeholder 2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F947F-173C-48C7-930E-21462EC99A54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02760" indent="-3027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ur application of the Random-Coefficient Discrete-Choice Normal mode leaves room for improvemen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ould fit the model using quarterly data with post PAEA definitions of mail class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ould include a broader set of demographic variabl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ould include a broader set of hedonic properti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Efficiency of the estimation methodology could be improved through generalized least squar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onventional Demand Models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oorly suited to estimate elasticities in markets with many similar product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utomobiles, Breakfast Cereals, Postal Product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nventional Mod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Employs a demand model for each produc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hould include the price of all relevant product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Brings rise to familiar econometric problem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Burdensome data requiremen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rices of many products are highly correlated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ross-Price elasticity estimation requires large sample size with sufficient variatio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CEE06-2560-4F3C-B38D-5F7A394DCCA3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w Cen MT"/>
              </a:rPr>
              <a:t>Conventional Postal Demand Models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83680" indent="-28368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These problems are not unfamiliar to postal practitioner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(US) data are typically quarterly national aggregates from 1971 to presen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Real postal rates tend to change together due to inflation and coordination imposed by price cap regula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U.S. Postal Service products divide into at least 15 different categories with distinct hedonic properti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Typically, models are fit including only </a:t>
            </a: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own-price 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data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voids multicolinearity problems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Result is an incomplete set of postal price elasticity estimate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EB1E7-F9F1-44E3-A67B-00CD1BE575DA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A BLP Solution?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Berry </a:t>
            </a:r>
            <a:r>
              <a:rPr b="0" i="1" lang="en-US" sz="2700" spc="-1" strike="noStrike">
                <a:solidFill>
                  <a:srgbClr val="000000"/>
                </a:solidFill>
                <a:latin typeface="Tw Cen MT"/>
              </a:rPr>
              <a:t>et al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 (1995) introduce a Random-Coefficient Discrete-Choice Logit Model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ndividual choice model used to estimate demand in a differentiated products marke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Requires only market-level dat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Known to produce cross-price elasticities that reflect realistic substitution patterns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Current “model du jour” in the Industrial Organization literatur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Largely based on the version presented by Nevo (2000, 2001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Has yet to be tried in the Postal Secto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6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4F1B6-E00E-4FE1-9944-F3C6508AC324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The Guts of the Model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457200" y="243828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inear Utility Func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wo Mean-Centered Disturbanc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Random Coefficient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Gains or losses to household </a:t>
            </a:r>
            <a:r>
              <a:rPr b="0" i="1" lang="en-US" sz="2300" spc="-1" strike="noStrike">
                <a:solidFill>
                  <a:srgbClr val="000000"/>
                </a:solidFill>
                <a:latin typeface="Tw Cen MT"/>
              </a:rPr>
              <a:t>i</a:t>
            </a: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 when purchasing and consuming product </a:t>
            </a:r>
            <a:r>
              <a:rPr b="0" i="1" lang="en-US" sz="2300" spc="-1" strike="noStrike">
                <a:solidFill>
                  <a:srgbClr val="000000"/>
                </a:solidFill>
                <a:latin typeface="Tw Cen MT"/>
              </a:rPr>
              <a:t>j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9" name="Object 3"/>
              <p:cNvSpPr txBox="1"/>
              <p:nvPr/>
            </p:nvSpPr>
            <p:spPr>
              <a:xfrm>
                <a:off x="665280" y="1727280"/>
                <a:ext cx="77356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α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β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50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30430-C576-43BA-B19C-D403D3753BD7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BLP: The Good and the Bad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456840" y="15235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Good News!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Model conforms well to economic theory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Is not overly restrictive with respect to price elasticity estimat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Bad New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Model was designed for “big ticket” item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896040" indent="-223920">
              <a:lnSpc>
                <a:spcPct val="80000"/>
              </a:lnSpc>
              <a:spcBef>
                <a:spcPts val="499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Requires distribution of mean-centered demographic variables and measurements of hedonic propertie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Worse New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We do not observe indirect utility, individual income, or consumer surplu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tting the model involves integrating out all of the random terms except for the mean disturbanc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BLP/Nevo requires a simulation to extract mean indirect utilities by matching market share data (slow!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Much Worse New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BLP/Nevo is itself an algorithm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Repeated calculation of mean indirect utilities is required to fit the model (may take days or weeks to run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1275F-8B6E-4DFE-B54C-01888731EEBC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A Modified BLP Solution!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457200" y="15235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We discovered a way to revise the model and greatly simplify/speed up the estimation proces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We replace the demographic variables with their principal components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e transformation forms a linear combination of variables that are </a:t>
            </a:r>
            <a:r>
              <a:rPr b="0" i="1" lang="en-US" sz="2200" spc="-1" strike="noStrike">
                <a:solidFill>
                  <a:srgbClr val="000000"/>
                </a:solidFill>
                <a:latin typeface="Tw Cen MT"/>
              </a:rPr>
              <a:t>iid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 N(0,1)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With this change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e simulation is replaced with a single-variable numerical integration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e estimation method is replaced with a Newton-Raphson method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Model can now be fit in under 12 hours with a moderately-sized postal application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We will ultimately split this paper in two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Paper # 1 – Model and Methodology (Sections 1-6)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Paper # 2 – Postal Application (Sections 7,8, and Appendix)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430A0-A1BB-4EA7-AA80-3499E6FD99EA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w Cen MT"/>
              </a:rPr>
              <a:t>U.S. Postal Service Application – The Data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We fit the model using both a fixed-weight index (FWI) and revenues per piece (RPP)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Model was fit using 40-year time series PFY 1972 to PFY 2011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Hedonic properties are taken from Pearsall and Trozzo (2011)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easures are based on the U.S. Postal Service mail stream during PFY 2009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Demographic variables suggested by conventional econometric studies of U.S. postal demand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earsall (2005, 2011) and Thress (2012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9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C9780-4374-4677-B865-93C354DC61C5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Postal Application-Definitions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pic>
        <p:nvPicPr>
          <p:cNvPr id="561" name="Picture 4" descr=""/>
          <p:cNvPicPr/>
          <p:nvPr/>
        </p:nvPicPr>
        <p:blipFill>
          <a:blip r:embed="rId1"/>
          <a:srcRect l="0" t="6257" r="55092" b="32465"/>
          <a:stretch/>
        </p:blipFill>
        <p:spPr>
          <a:xfrm>
            <a:off x="228600" y="1523880"/>
            <a:ext cx="4295880" cy="350532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4" descr=""/>
          <p:cNvPicPr/>
          <p:nvPr/>
        </p:nvPicPr>
        <p:blipFill>
          <a:blip r:embed="rId2"/>
          <a:srcRect l="46961" t="6064" r="4886" b="37378"/>
          <a:stretch/>
        </p:blipFill>
        <p:spPr>
          <a:xfrm>
            <a:off x="4419720" y="1523880"/>
            <a:ext cx="4487760" cy="335304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4" descr=""/>
          <p:cNvPicPr/>
          <p:nvPr/>
        </p:nvPicPr>
        <p:blipFill>
          <a:blip r:embed="rId3"/>
          <a:srcRect l="1885" t="71218" r="21836" b="0"/>
          <a:stretch/>
        </p:blipFill>
        <p:spPr>
          <a:xfrm>
            <a:off x="1066680" y="5065560"/>
            <a:ext cx="7315200" cy="1716120"/>
          </a:xfrm>
          <a:prstGeom prst="rect">
            <a:avLst/>
          </a:prstGeom>
          <a:ln w="0">
            <a:noFill/>
          </a:ln>
        </p:spPr>
      </p:pic>
      <p:sp>
        <p:nvSpPr>
          <p:cNvPr id="564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6DF82-5454-44C5-837F-1A93BB9EACC4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5" name="Frame 9"/>
          <p:cNvSpPr/>
          <p:nvPr/>
        </p:nvSpPr>
        <p:spPr>
          <a:xfrm>
            <a:off x="4800600" y="1752480"/>
            <a:ext cx="2819520" cy="609840"/>
          </a:xfrm>
          <a:custGeom>
            <a:avLst/>
            <a:gdLst>
              <a:gd name="textAreaLeft" fmla="*/ 46440 w 2819520"/>
              <a:gd name="textAreaRight" fmla="*/ 2773080 w 2819520"/>
              <a:gd name="textAreaTop" fmla="*/ 46440 h 609840"/>
              <a:gd name="textAreaBottom" fmla="*/ 563400 h 609840"/>
            </a:gdLst>
            <a:ahLst/>
            <a:rect l="textAreaLeft" t="textAreaTop" r="textAreaRight" b="textAreaBottom"/>
            <a:pathLst>
              <a:path w="2819400" h="609600">
                <a:moveTo>
                  <a:pt x="0" y="0"/>
                </a:moveTo>
                <a:lnTo>
                  <a:pt x="2819400" y="0"/>
                </a:lnTo>
                <a:lnTo>
                  <a:pt x="2819400" y="609600"/>
                </a:lnTo>
                <a:lnTo>
                  <a:pt x="0" y="609600"/>
                </a:lnTo>
                <a:close/>
                <a:moveTo>
                  <a:pt x="46701" y="46701"/>
                </a:moveTo>
                <a:lnTo>
                  <a:pt x="46701" y="562899"/>
                </a:lnTo>
                <a:lnTo>
                  <a:pt x="2772699" y="562899"/>
                </a:lnTo>
                <a:lnTo>
                  <a:pt x="2772699" y="4670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6" name="Frame 10"/>
          <p:cNvSpPr/>
          <p:nvPr/>
        </p:nvSpPr>
        <p:spPr>
          <a:xfrm>
            <a:off x="4724280" y="2971800"/>
            <a:ext cx="3962520" cy="990720"/>
          </a:xfrm>
          <a:custGeom>
            <a:avLst/>
            <a:gdLst>
              <a:gd name="textAreaLeft" fmla="*/ 75600 w 3962520"/>
              <a:gd name="textAreaRight" fmla="*/ 3886920 w 3962520"/>
              <a:gd name="textAreaTop" fmla="*/ 75600 h 990720"/>
              <a:gd name="textAreaBottom" fmla="*/ 915120 h 990720"/>
            </a:gdLst>
            <a:ahLst/>
            <a:rect l="textAreaLeft" t="textAreaTop" r="textAreaRight" b="textAreaBottom"/>
            <a:pathLst>
              <a:path w="3962400" h="990600">
                <a:moveTo>
                  <a:pt x="0" y="0"/>
                </a:moveTo>
                <a:lnTo>
                  <a:pt x="3962400" y="0"/>
                </a:lnTo>
                <a:lnTo>
                  <a:pt x="3962400" y="990600"/>
                </a:lnTo>
                <a:lnTo>
                  <a:pt x="0" y="990600"/>
                </a:lnTo>
                <a:close/>
                <a:moveTo>
                  <a:pt x="75890" y="75890"/>
                </a:moveTo>
                <a:lnTo>
                  <a:pt x="75890" y="914710"/>
                </a:lnTo>
                <a:lnTo>
                  <a:pt x="3886510" y="914710"/>
                </a:lnTo>
                <a:lnTo>
                  <a:pt x="3886510" y="7589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7" name="Frame 11"/>
          <p:cNvSpPr/>
          <p:nvPr/>
        </p:nvSpPr>
        <p:spPr>
          <a:xfrm>
            <a:off x="4724280" y="3962520"/>
            <a:ext cx="4191120" cy="609480"/>
          </a:xfrm>
          <a:custGeom>
            <a:avLst/>
            <a:gdLst>
              <a:gd name="textAreaLeft" fmla="*/ 46440 w 4191120"/>
              <a:gd name="textAreaRight" fmla="*/ 4144680 w 4191120"/>
              <a:gd name="textAreaTop" fmla="*/ 46440 h 609480"/>
              <a:gd name="textAreaBottom" fmla="*/ 563040 h 609480"/>
            </a:gdLst>
            <a:ahLst/>
            <a:rect l="textAreaLeft" t="textAreaTop" r="textAreaRight" b="textAreaBottom"/>
            <a:pathLst>
              <a:path w="4191000" h="609600">
                <a:moveTo>
                  <a:pt x="0" y="0"/>
                </a:moveTo>
                <a:lnTo>
                  <a:pt x="4191000" y="0"/>
                </a:lnTo>
                <a:lnTo>
                  <a:pt x="4191000" y="609600"/>
                </a:lnTo>
                <a:lnTo>
                  <a:pt x="0" y="609600"/>
                </a:lnTo>
                <a:close/>
                <a:moveTo>
                  <a:pt x="46701" y="46701"/>
                </a:moveTo>
                <a:lnTo>
                  <a:pt x="46701" y="562899"/>
                </a:lnTo>
                <a:lnTo>
                  <a:pt x="4144299" y="562899"/>
                </a:lnTo>
                <a:lnTo>
                  <a:pt x="4144299" y="4670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2T18:03:00Z</dcterms:created>
  <dc:creator>pateles</dc:creator>
  <dc:description/>
  <dc:language>en-US</dc:language>
  <cp:lastModifiedBy>ANASIELT</cp:lastModifiedBy>
  <dcterms:modified xsi:type="dcterms:W3CDTF">2012-07-12T17:19:21Z</dcterms:modified>
  <cp:revision>156</cp:revision>
  <dc:subject/>
  <dc:title>Estimates of U.S. Postal Demand Elasticities Derived from a Random-Coefficients Discrete-Choice Normal Model</dc:title>
</cp:coreProperties>
</file>